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7.png" ContentType="image/png"/>
  <Override PartName="/ppt/media/image12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16257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28600" y="488268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1536480" y="0"/>
            <a:ext cx="1436364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03596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228600" y="488268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03596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274068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25312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22860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274068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525312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03596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536480" y="0"/>
            <a:ext cx="1436364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03596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228600" y="488268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03596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74068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5312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22860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74068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25312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74068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25312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22860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74068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25312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536480" y="0"/>
            <a:ext cx="1436364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03596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228600" y="488268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03596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274068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25312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22860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274068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25312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36480" y="0"/>
            <a:ext cx="1436364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3596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88268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3596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4068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5312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4068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5312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536480" y="0"/>
            <a:ext cx="1436364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03596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600" y="488268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03596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74068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25312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60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274068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25312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536480" y="0"/>
            <a:ext cx="1436364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03596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228600" y="488268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03596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74068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25312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22860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74068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25312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1536480" y="0"/>
            <a:ext cx="1436364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03596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28600" y="488268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03596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36480" y="0"/>
            <a:ext cx="1436364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74068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5312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2860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74068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25312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536480" y="0"/>
            <a:ext cx="1436364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03596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228600" y="488268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03596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274068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25312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22860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274068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25312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536480" y="0"/>
            <a:ext cx="1436364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03596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03596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228600" y="488268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03596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274068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5312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22860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274068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25312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536480" y="0"/>
            <a:ext cx="1436364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03596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28600" y="4882680"/>
            <a:ext cx="742968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035960" y="162540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2860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035960" y="4882680"/>
            <a:ext cx="362556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74068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253120" y="162540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2860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274068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253120" y="4882680"/>
            <a:ext cx="2392200" cy="2974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171520"/>
            <a:ext cx="15379560" cy="214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elvetica Neue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4317480"/>
            <a:ext cx="15379560" cy="2235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58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74b0"/>
                </a:solidFill>
                <a:latin typeface="Helvetica Neue"/>
              </a:rPr>
              <a:t>Click to edit the outline text format</a:t>
            </a:r>
            <a:endParaRPr b="0" lang="en-US" sz="3400" spc="-1" strike="noStrike">
              <a:solidFill>
                <a:srgbClr val="0074b0"/>
              </a:solidFill>
              <a:latin typeface="Helvetica Neue"/>
            </a:endParaRPr>
          </a:p>
          <a:p>
            <a:pPr lvl="1" algn="ctr">
              <a:buClr>
                <a:srgbClr val="0074b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74b0"/>
                </a:solidFill>
                <a:latin typeface="Helvetica Neue"/>
              </a:rPr>
              <a:t>Second Outline Level</a:t>
            </a:r>
            <a:endParaRPr b="0" lang="en-US" sz="3400" spc="-1" strike="noStrike">
              <a:solidFill>
                <a:srgbClr val="0074b0"/>
              </a:solidFill>
              <a:latin typeface="Helvetica Neue"/>
            </a:endParaRPr>
          </a:p>
          <a:p>
            <a:pPr lvl="2" algn="ctr">
              <a:buClr>
                <a:srgbClr val="0074b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74b0"/>
                </a:solidFill>
                <a:latin typeface="Helvetica Neue"/>
              </a:rPr>
              <a:t>Third Outline Level</a:t>
            </a:r>
            <a:endParaRPr b="0" lang="en-US" sz="3400" spc="-1" strike="noStrike">
              <a:solidFill>
                <a:srgbClr val="0074b0"/>
              </a:solidFill>
              <a:latin typeface="Helvetica Neue"/>
            </a:endParaRPr>
          </a:p>
          <a:p>
            <a:pPr lvl="3" algn="ctr">
              <a:buClr>
                <a:srgbClr val="0074b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74b0"/>
                </a:solidFill>
                <a:latin typeface="Helvetica Neue"/>
              </a:rPr>
              <a:t>Fourth Outline Level</a:t>
            </a:r>
            <a:endParaRPr b="0" lang="en-US" sz="3400" spc="-1" strike="noStrike">
              <a:solidFill>
                <a:srgbClr val="0074b0"/>
              </a:solidFill>
              <a:latin typeface="Helvetica Neue"/>
            </a:endParaRPr>
          </a:p>
          <a:p>
            <a:pPr lvl="4" algn="ctr">
              <a:buClr>
                <a:srgbClr val="0074b0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74b0"/>
                </a:solidFill>
                <a:latin typeface="Helvetica Neue"/>
              </a:rPr>
              <a:t>Fifth Outline Level</a:t>
            </a:r>
            <a:endParaRPr b="0" lang="en-US" sz="3400" spc="-1" strike="noStrike">
              <a:solidFill>
                <a:srgbClr val="0074b0"/>
              </a:solidFill>
              <a:latin typeface="Helvetica Neue"/>
            </a:endParaRPr>
          </a:p>
          <a:p>
            <a:pPr lvl="5" algn="ctr">
              <a:buClr>
                <a:srgbClr val="414141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74b0"/>
                </a:solidFill>
                <a:latin typeface="Helvetica Neue"/>
              </a:rPr>
              <a:t>Sixth Outline Level</a:t>
            </a:r>
            <a:endParaRPr b="0" lang="en-US" sz="3400" spc="-1" strike="noStrike">
              <a:solidFill>
                <a:srgbClr val="0074b0"/>
              </a:solidFill>
              <a:latin typeface="Helvetica Neue"/>
            </a:endParaRPr>
          </a:p>
          <a:p>
            <a:pPr lvl="6" algn="ctr">
              <a:buClr>
                <a:srgbClr val="414141"/>
              </a:buClr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74b0"/>
                </a:solidFill>
                <a:latin typeface="Helvetica Neue"/>
              </a:rPr>
              <a:t>Seventh Outline Level</a:t>
            </a:r>
            <a:endParaRPr b="0" lang="en-US" sz="3400" spc="-1" strike="noStrike">
              <a:solidFill>
                <a:srgbClr val="0074b0"/>
              </a:solidFill>
              <a:latin typeface="Helvetica Neue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425680" y="343080"/>
            <a:ext cx="5461200" cy="11905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11950560" y="12600"/>
            <a:ext cx="1444680" cy="18338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2298600" y="7696080"/>
            <a:ext cx="2552760" cy="82872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5"/>
          <a:stretch/>
        </p:blipFill>
        <p:spPr>
          <a:xfrm>
            <a:off x="5100480" y="7670880"/>
            <a:ext cx="1955880" cy="8809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6"/>
          <a:stretch/>
        </p:blipFill>
        <p:spPr>
          <a:xfrm>
            <a:off x="7353360" y="7632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7"/>
          <a:stretch/>
        </p:blipFill>
        <p:spPr>
          <a:xfrm>
            <a:off x="8585280" y="7632720"/>
            <a:ext cx="1058760" cy="9525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8"/>
          <a:stretch/>
        </p:blipFill>
        <p:spPr>
          <a:xfrm>
            <a:off x="9817200" y="7658280"/>
            <a:ext cx="1739880" cy="90144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9"/>
          <a:stretch/>
        </p:blipFill>
        <p:spPr>
          <a:xfrm>
            <a:off x="11569680" y="7683480"/>
            <a:ext cx="2608200" cy="828720"/>
          </a:xfrm>
          <a:prstGeom prst="rect">
            <a:avLst/>
          </a:prstGeom>
          <a:ln w="0">
            <a:noFill/>
          </a:ln>
        </p:spPr>
      </p:pic>
      <p:sp>
        <p:nvSpPr>
          <p:cNvPr id="10" name=""/>
          <p:cNvSpPr/>
          <p:nvPr/>
        </p:nvSpPr>
        <p:spPr>
          <a:xfrm>
            <a:off x="5022720" y="8658360"/>
            <a:ext cx="10414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DIN-LightItalic"/>
                <a:ea typeface="DIN-LightItalic"/>
              </a:rPr>
              <a:t>This project has been funded with support from the European Commission. This publication reflects the views only of the author,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DIN-LightItalic"/>
                <a:ea typeface="DIN-LightItalic"/>
              </a:rPr>
              <a:t>and the Commission cannot be held responsible for any use which may be made of the information contained therein.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11" name=""/>
          <p:cNvSpPr/>
          <p:nvPr/>
        </p:nvSpPr>
        <p:spPr>
          <a:xfrm>
            <a:off x="152280" y="8629560"/>
            <a:ext cx="38354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14141"/>
                </a:solidFill>
                <a:latin typeface="DIN-LightItalic"/>
                <a:ea typeface="DIN-LightItalic"/>
              </a:rPr>
              <a:t>Flipping First Project2016-1-ES01-KA202-025410 </a:t>
            </a: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2425680" y="343080"/>
            <a:ext cx="5461200" cy="11905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13728600" y="0"/>
            <a:ext cx="1444680" cy="18334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2705040" y="3817800"/>
            <a:ext cx="3594240" cy="116856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5"/>
          <a:stretch/>
        </p:blipFill>
        <p:spPr>
          <a:xfrm>
            <a:off x="4270320" y="5791320"/>
            <a:ext cx="2857680" cy="128592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6"/>
          <a:stretch/>
        </p:blipFill>
        <p:spPr>
          <a:xfrm>
            <a:off x="8128080" y="2959200"/>
            <a:ext cx="1320840" cy="13208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7"/>
          <a:stretch/>
        </p:blipFill>
        <p:spPr>
          <a:xfrm>
            <a:off x="8039160" y="6210360"/>
            <a:ext cx="1473120" cy="13222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8"/>
          <a:stretch/>
        </p:blipFill>
        <p:spPr>
          <a:xfrm>
            <a:off x="10667880" y="4051440"/>
            <a:ext cx="2778120" cy="14382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9"/>
          <a:stretch/>
        </p:blipFill>
        <p:spPr>
          <a:xfrm>
            <a:off x="10007640" y="6858000"/>
            <a:ext cx="3726000" cy="11844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2516040" y="8472600"/>
            <a:ext cx="1041408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DIN-LightItalic"/>
                <a:ea typeface="DIN-LightItalic"/>
              </a:rPr>
              <a:t>This project has been funded with support from the European Commission. This publication reflects the views only of the author, 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14141"/>
                </a:solidFill>
                <a:latin typeface="DIN-LightItalic"/>
                <a:ea typeface="DIN-LightItalic"/>
              </a:rPr>
              <a:t>and the Commission cannot be held responsible for any use which may be made of the information contained therein.</a:t>
            </a:r>
            <a:endParaRPr b="0" lang="en-US" sz="10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377" name=""/>
          <p:cNvSpPr/>
          <p:nvPr/>
        </p:nvSpPr>
        <p:spPr>
          <a:xfrm>
            <a:off x="2031840" y="2349360"/>
            <a:ext cx="57405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14141"/>
                </a:solidFill>
                <a:latin typeface="DIN-LightItalic"/>
                <a:ea typeface="DIN-LightItalic"/>
              </a:rPr>
              <a:t>Flipping First Project2016-1-ES01-KA202-025410 </a:t>
            </a:r>
            <a:endParaRPr b="0" lang="en-US" sz="18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85720" y="0"/>
            <a:ext cx="1440180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74b0"/>
                </a:solidFill>
                <a:latin typeface="Helvetica Neue"/>
              </a:rPr>
              <a:t>Click to edit the title text format</a:t>
            </a:r>
            <a:endParaRPr b="0" lang="en-US" sz="5200" spc="-1" strike="noStrike">
              <a:solidFill>
                <a:srgbClr val="0074b0"/>
              </a:solidFill>
              <a:latin typeface="Helvetica Neue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-15760800" y="1422360"/>
            <a:ext cx="13733640" cy="914724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838188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584280" indent="-381240">
              <a:buClr>
                <a:srgbClr val="000000"/>
              </a:buClr>
              <a:buSzPct val="71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965160" indent="-380880">
              <a:buClr>
                <a:srgbClr val="000000"/>
              </a:buClr>
              <a:buSzPct val="54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219320" indent="-33048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1434960" indent="-26640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1434960" indent="-266400">
              <a:buClr>
                <a:srgbClr val="414141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1434960" indent="-266400">
              <a:buClr>
                <a:srgbClr val="414141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3"/>
          <a:stretch/>
        </p:blipFill>
        <p:spPr>
          <a:xfrm>
            <a:off x="254160" y="63360"/>
            <a:ext cx="799920" cy="101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68560" y="101520"/>
            <a:ext cx="1475712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4b0"/>
                </a:solidFill>
                <a:latin typeface="Helvetica Neue"/>
              </a:rPr>
              <a:t>Click to edit the title text format</a:t>
            </a: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15760800" y="1422360"/>
            <a:ext cx="13733640" cy="9147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54160" y="63360"/>
            <a:ext cx="799920" cy="10162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812880" y="2139480"/>
            <a:ext cx="1463148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Std Medi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Bauhaus Std Medium"/>
            </a:endParaRPr>
          </a:p>
          <a:p>
            <a:pPr lvl="1" marL="673200" indent="-419040">
              <a:buClr>
                <a:srgbClr val="000000"/>
              </a:buClr>
              <a:buSzPct val="77000"/>
              <a:buFont typeface="Bauhaus Std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uhaus Std Mediu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Bauhaus Std Medium"/>
            </a:endParaRPr>
          </a:p>
          <a:p>
            <a:pPr lvl="2" marL="1015920" indent="-380880">
              <a:buClr>
                <a:srgbClr val="000000"/>
              </a:buClr>
              <a:buSzPct val="74000"/>
              <a:buFont typeface="Bauhaus Std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auhaus Std Medium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Bauhaus Std Medium"/>
            </a:endParaRPr>
          </a:p>
          <a:p>
            <a:pPr lvl="3" marL="1270080" indent="-330120">
              <a:buClr>
                <a:srgbClr val="000000"/>
              </a:buClr>
              <a:buSzPct val="77000"/>
              <a:buFont typeface="Bauhaus Std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auhaus Std Medium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auhaus Std Medium"/>
            </a:endParaRPr>
          </a:p>
          <a:p>
            <a:pPr lvl="4" marL="1486080" indent="-266760">
              <a:buClr>
                <a:srgbClr val="000000"/>
              </a:buClr>
              <a:buSzPct val="77000"/>
              <a:buFont typeface="Bauhaus Std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uhaus Std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auhaus Std Medium"/>
            </a:endParaRPr>
          </a:p>
          <a:p>
            <a:pPr lvl="5" marL="1486080" indent="-266760">
              <a:spcBef>
                <a:spcPts val="499"/>
              </a:spcBef>
              <a:buClr>
                <a:srgbClr val="000000"/>
              </a:buClr>
              <a:buSzPct val="77000"/>
              <a:buFont typeface="Bauhaus Std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uhaus Std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auhaus Std Medium"/>
            </a:endParaRPr>
          </a:p>
          <a:p>
            <a:pPr lvl="6" marL="1486080" indent="-266760">
              <a:spcBef>
                <a:spcPts val="499"/>
              </a:spcBef>
              <a:buClr>
                <a:srgbClr val="000000"/>
              </a:buClr>
              <a:buSzPct val="77000"/>
              <a:buFont typeface="Bauhaus Std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auhaus Std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auhaus Std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22000" y="0"/>
            <a:ext cx="1447812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74b0"/>
                </a:solidFill>
                <a:latin typeface="Helvetica Neue"/>
              </a:rPr>
              <a:t>Click to edit the title text format</a:t>
            </a:r>
            <a:endParaRPr b="0" lang="en-US" sz="5200" spc="-1" strike="noStrike">
              <a:solidFill>
                <a:srgbClr val="0074b0"/>
              </a:solidFill>
              <a:latin typeface="Helvetica Neue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-15760800" y="1422360"/>
            <a:ext cx="13733640" cy="9147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3200" y="1625400"/>
            <a:ext cx="1515096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584280" indent="-381240">
              <a:buClr>
                <a:srgbClr val="000000"/>
              </a:buClr>
              <a:buSzPct val="71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965160" indent="-380880">
              <a:buClr>
                <a:srgbClr val="000000"/>
              </a:buClr>
              <a:buSzPct val="54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219320" indent="-33048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1434960" indent="-26640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1434960" indent="-266400">
              <a:buClr>
                <a:srgbClr val="414141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1434960" indent="-266400">
              <a:buClr>
                <a:srgbClr val="414141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4160" y="63360"/>
            <a:ext cx="799920" cy="101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85720" y="0"/>
            <a:ext cx="1440180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4b0"/>
                </a:solidFill>
                <a:latin typeface="Helvetica Neue"/>
              </a:rPr>
              <a:t>Click to edit the title text format</a:t>
            </a: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-15760800" y="1422360"/>
            <a:ext cx="13733640" cy="91472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584280" indent="-381240">
              <a:buClr>
                <a:srgbClr val="000000"/>
              </a:buClr>
              <a:buSzPct val="71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965160" indent="-380880">
              <a:buClr>
                <a:srgbClr val="000000"/>
              </a:buClr>
              <a:buSzPct val="54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219320" indent="-33048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1434960" indent="-26640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1434960" indent="-266400">
              <a:buClr>
                <a:srgbClr val="414141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1434960" indent="-266400">
              <a:buClr>
                <a:srgbClr val="414141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54160" y="63360"/>
            <a:ext cx="799920" cy="101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4b0"/>
                </a:solidFill>
                <a:latin typeface="Helvetica Neue"/>
              </a:rPr>
              <a:t>Click to edit the title text format</a:t>
            </a: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-15760800" y="1422360"/>
            <a:ext cx="13733640" cy="91472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584280" indent="-381240">
              <a:buClr>
                <a:srgbClr val="000000"/>
              </a:buClr>
              <a:buSzPct val="71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965160" indent="-380880">
              <a:buClr>
                <a:srgbClr val="000000"/>
              </a:buClr>
              <a:buSzPct val="54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219320" indent="-33048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1434960" indent="-26640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1434960" indent="-26640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1434960" indent="-26640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254160" y="63360"/>
            <a:ext cx="799920" cy="101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4b0"/>
                </a:solidFill>
                <a:latin typeface="Helvetica Neue"/>
              </a:rPr>
              <a:t>Click to edit the title text format</a:t>
            </a: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-15760800" y="1422360"/>
            <a:ext cx="13733640" cy="91472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584280" indent="-381240">
              <a:buClr>
                <a:srgbClr val="000000"/>
              </a:buClr>
              <a:buSzPct val="71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965160" indent="-380880">
              <a:buClr>
                <a:srgbClr val="000000"/>
              </a:buClr>
              <a:buSzPct val="54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219320" indent="-33048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1434960" indent="-26640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1434960" indent="-26640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1434960" indent="-26640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254160" y="63360"/>
            <a:ext cx="799920" cy="101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4b0"/>
                </a:solidFill>
                <a:latin typeface="Helvetica Neue"/>
              </a:rPr>
              <a:t>Click to edit the title text format</a:t>
            </a: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-15760800" y="1422360"/>
            <a:ext cx="13733640" cy="914724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584280" indent="-381240">
              <a:buClr>
                <a:srgbClr val="000000"/>
              </a:buClr>
              <a:buSzPct val="71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965160" indent="-380880">
              <a:buClr>
                <a:srgbClr val="000000"/>
              </a:buClr>
              <a:buSzPct val="54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219320" indent="-33048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1434960" indent="-26640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1434960" indent="-26640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1434960" indent="-26640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254160" y="63360"/>
            <a:ext cx="799920" cy="101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4b0"/>
                </a:solidFill>
                <a:latin typeface="Helvetica Neue"/>
              </a:rPr>
              <a:t>Click to edit the title text format</a:t>
            </a: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-15760800" y="1422360"/>
            <a:ext cx="13733640" cy="914724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584280" indent="-381240">
              <a:buClr>
                <a:srgbClr val="000000"/>
              </a:buClr>
              <a:buSzPct val="71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965160" indent="-380880">
              <a:buClr>
                <a:srgbClr val="000000"/>
              </a:buClr>
              <a:buSzPct val="54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219320" indent="-33048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1434960" indent="-26640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1434960" indent="-26640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1434960" indent="-26640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3"/>
          <a:stretch/>
        </p:blipFill>
        <p:spPr>
          <a:xfrm>
            <a:off x="254160" y="63360"/>
            <a:ext cx="799920" cy="101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4b0"/>
                </a:solidFill>
                <a:latin typeface="Helvetica Neue"/>
              </a:rPr>
              <a:t>Click to edit the title text format</a:t>
            </a: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-15760800" y="1422360"/>
            <a:ext cx="13733640" cy="914724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228600" y="1625400"/>
            <a:ext cx="7429680" cy="6235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584280" indent="-381240">
              <a:buClr>
                <a:srgbClr val="000000"/>
              </a:buClr>
              <a:buSzPct val="71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965160" indent="-380880">
              <a:buClr>
                <a:srgbClr val="000000"/>
              </a:buClr>
              <a:buSzPct val="54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219320" indent="-33048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1434960" indent="-26640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1434960" indent="-26640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1434960" indent="-266400">
              <a:buClr>
                <a:srgbClr val="000000"/>
              </a:buClr>
              <a:buSzPct val="77000"/>
              <a:buFont typeface="Helvetica Neue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254160" y="63360"/>
            <a:ext cx="799920" cy="1016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8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171520"/>
            <a:ext cx="15379560" cy="2145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Helvetica Neue"/>
              </a:rPr>
              <a:t>Flipped classroom</a:t>
            </a:r>
            <a:endParaRPr b="0" lang="en-US" sz="6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4317480"/>
            <a:ext cx="15379560" cy="2235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74b0"/>
                </a:solidFill>
                <a:latin typeface="Helvetica Neue"/>
              </a:rPr>
              <a:t>La clase invertida</a:t>
            </a:r>
            <a:endParaRPr b="0" lang="en-US" sz="3400" spc="-1" strike="noStrike">
              <a:solidFill>
                <a:srgbClr val="0074b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4b0"/>
                </a:solidFill>
                <a:latin typeface="Helvetica Neue"/>
              </a:rPr>
              <a:t>Aspectos a considerar</a:t>
            </a: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041480" y="2730600"/>
            <a:ext cx="13563360" cy="441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635040" indent="-380880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ntorno flexible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35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35040" indent="-3808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raduación del aprendizaje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35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35040" indent="-38088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elección de contenidos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35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35040" indent="-38088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l docente como guía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9499680" y="1992240"/>
            <a:ext cx="4079880" cy="544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4b0"/>
                </a:solidFill>
                <a:latin typeface="Helvetica Neue"/>
              </a:rPr>
              <a:t>Herramientas</a:t>
            </a: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184800" y="1688760"/>
            <a:ext cx="9779040" cy="722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9000"/>
          </a:bodyPr>
          <a:p>
            <a:pPr lvl="1" marL="628560" indent="-376920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Vídeos: herramientas de creación y edición de vídeo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285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28560" indent="-37692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Creación: presentaciones, infografías…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285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28560" indent="-37692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Síntesis: mapas conceptuales…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285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28560" indent="-37692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valuación: cuestionarios, rúbricas…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285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28560" indent="-376920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Organización: plataformas como moodle…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2856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28560" indent="-376920"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7"/>
          <a:stretch/>
        </p:blipFill>
        <p:spPr>
          <a:xfrm>
            <a:off x="-3835440" y="1704960"/>
            <a:ext cx="978048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639800" y="1685880"/>
            <a:ext cx="12954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Bergman y Sams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(2007)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3067200" y="2563920"/>
            <a:ext cx="2781000" cy="3390840"/>
            <a:chOff x="3067200" y="2563920"/>
            <a:chExt cx="2781000" cy="3390840"/>
          </a:xfrm>
        </p:grpSpPr>
        <p:sp>
          <p:nvSpPr>
            <p:cNvPr id="458" name=""/>
            <p:cNvSpPr/>
            <p:nvPr/>
          </p:nvSpPr>
          <p:spPr>
            <a:xfrm>
              <a:off x="3067200" y="3268800"/>
              <a:ext cx="2781000" cy="1976400"/>
            </a:xfrm>
            <a:prstGeom prst="roundRect">
              <a:avLst>
                <a:gd name="adj" fmla="val 6375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20840" y="2563920"/>
              <a:ext cx="2666520" cy="33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Helvetica Neue Light"/>
                  <a:ea typeface="Helvetica Neue Light"/>
                </a:rPr>
                <a:t>Las clases se preparan en vídeos</a:t>
              </a:r>
              <a:endParaRPr b="0" lang="en-US" sz="36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3059280" y="5322960"/>
            <a:ext cx="2781000" cy="3390840"/>
            <a:chOff x="3059280" y="5322960"/>
            <a:chExt cx="2781000" cy="3390840"/>
          </a:xfrm>
        </p:grpSpPr>
        <p:sp>
          <p:nvSpPr>
            <p:cNvPr id="461" name=""/>
            <p:cNvSpPr/>
            <p:nvPr/>
          </p:nvSpPr>
          <p:spPr>
            <a:xfrm>
              <a:off x="3059280" y="5869080"/>
              <a:ext cx="2781000" cy="2292480"/>
            </a:xfrm>
            <a:prstGeom prst="roundRect">
              <a:avLst>
                <a:gd name="adj" fmla="val 8375"/>
              </a:avLst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39920" y="5322960"/>
              <a:ext cx="2612520" cy="339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Helvetica Neue Light"/>
                  <a:ea typeface="Helvetica Neue Light"/>
                </a:rPr>
                <a:t>Resolución de dudas y realización de tareas</a:t>
              </a:r>
              <a:endParaRPr b="0" lang="en-US" sz="36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6635880" y="3889440"/>
            <a:ext cx="2944800" cy="718920"/>
          </a:xfrm>
          <a:prstGeom prst="rightArrow">
            <a:avLst>
              <a:gd name="adj1" fmla="val 50000"/>
              <a:gd name="adj2" fmla="val 37567"/>
            </a:avLst>
          </a:prstGeom>
          <a:solidFill>
            <a:srgbClr val="7f7f7f"/>
          </a:solidFill>
          <a:ln w="25560">
            <a:solidFill>
              <a:srgbClr val="395e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4" name=""/>
          <p:cNvSpPr/>
          <p:nvPr/>
        </p:nvSpPr>
        <p:spPr>
          <a:xfrm>
            <a:off x="6651720" y="6640560"/>
            <a:ext cx="2944800" cy="720720"/>
          </a:xfrm>
          <a:prstGeom prst="rightArrow">
            <a:avLst>
              <a:gd name="adj1" fmla="val 50000"/>
              <a:gd name="adj2" fmla="val 37473"/>
            </a:avLst>
          </a:prstGeom>
          <a:solidFill>
            <a:srgbClr val="7f7f7f"/>
          </a:solidFill>
          <a:ln w="25560">
            <a:solidFill>
              <a:srgbClr val="395e8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5" name=""/>
          <p:cNvSpPr/>
          <p:nvPr/>
        </p:nvSpPr>
        <p:spPr>
          <a:xfrm>
            <a:off x="10101240" y="3909960"/>
            <a:ext cx="50799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e ven en casa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6" name=""/>
          <p:cNvSpPr/>
          <p:nvPr/>
        </p:nvSpPr>
        <p:spPr>
          <a:xfrm>
            <a:off x="10228320" y="6669000"/>
            <a:ext cx="5346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Se “hace” en clase</a:t>
            </a:r>
            <a:endParaRPr b="0" lang="en-US" sz="3600" spc="-1" strike="noStrike">
              <a:solidFill>
                <a:srgbClr val="414141"/>
              </a:solidFill>
              <a:latin typeface="Gill Sans Light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168560" y="101520"/>
            <a:ext cx="1475712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4b0"/>
                </a:solidFill>
                <a:latin typeface="Helvetica Neue"/>
              </a:rPr>
              <a:t>Flipped Classroom</a:t>
            </a: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22000" y="0"/>
            <a:ext cx="14478120" cy="101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74b0"/>
                </a:solidFill>
                <a:latin typeface="Helvetica Neue"/>
              </a:rPr>
              <a:t>¿Qué es el flipped classroom?</a:t>
            </a:r>
            <a:endParaRPr b="0" lang="en-US" sz="52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14973120" cy="5321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odelo pedagógico en el que el alumnado accede a los contenidos de la materia en su casa mediante grabaciones de vídeo, presentaciones y otras herramientas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El tiempo del aula se dedica a trabajar sobre los contenidos aprendidos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6146640" y="5180040"/>
            <a:ext cx="5334120" cy="35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85720" y="0"/>
            <a:ext cx="1440180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4b0"/>
                </a:solidFill>
                <a:latin typeface="Helvetica Neue"/>
              </a:rPr>
              <a:t>Diferencias con el modelo tradicional</a:t>
            </a:r>
            <a:endParaRPr b="0" lang="en-US" sz="48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55680" y="1510920"/>
            <a:ext cx="7518240" cy="746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Neue"/>
              </a:rPr>
              <a:t>Modelo tradiciona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406440" indent="-279360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Centrado en los contenidos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4064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406440" indent="-27936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Docente: transmisor de información, en el aula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4064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4064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406440" indent="-27936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Alumnos: adquieren conocimientos en el aula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4064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lvl="1" marL="406440" indent="-27936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</a:rPr>
              <a:t>Alumnado: trabaja los conocimientos después de la clase.</a:t>
            </a:r>
            <a:endParaRPr b="0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73" name=""/>
          <p:cNvSpPr/>
          <p:nvPr/>
        </p:nvSpPr>
        <p:spPr>
          <a:xfrm>
            <a:off x="7899480" y="1511280"/>
            <a:ext cx="833112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Flipped classroom</a:t>
            </a: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1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Centrado en los alumnos.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1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1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ocente: prepara materiales y los alumnos acceden en casa antes de la clase.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1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Alumnos: trabajan en el aula los conocimientos adquiridos en casa.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1000"/>
              <a:buFont typeface="Helvetica Neu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elvetica Neue"/>
                <a:ea typeface="Helvetica Neue"/>
              </a:rPr>
              <a:t>Docente: afianza el aprendizaje del alumnado en el aula.</a:t>
            </a:r>
            <a:endParaRPr b="0" lang="en-US" sz="3000" spc="-1" strike="noStrike">
              <a:solidFill>
                <a:srgbClr val="414141"/>
              </a:solidFill>
              <a:latin typeface="Gill Sans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14141"/>
              </a:solidFill>
              <a:latin typeface="Gill Sans Ligh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"/>
          <p:cNvGrpSpPr/>
          <p:nvPr/>
        </p:nvGrpSpPr>
        <p:grpSpPr>
          <a:xfrm>
            <a:off x="1673280" y="1790640"/>
            <a:ext cx="3924360" cy="3924360"/>
            <a:chOff x="1673280" y="1790640"/>
            <a:chExt cx="3924360" cy="3924360"/>
          </a:xfrm>
        </p:grpSpPr>
        <p:sp>
          <p:nvSpPr>
            <p:cNvPr id="475" name=""/>
            <p:cNvSpPr/>
            <p:nvPr/>
          </p:nvSpPr>
          <p:spPr>
            <a:xfrm>
              <a:off x="1673280" y="1790640"/>
              <a:ext cx="3924360" cy="39243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246400" y="2257200"/>
              <a:ext cx="2771640" cy="29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Helvetica Neue"/>
                  <a:ea typeface="Helvetica Neue"/>
                </a:rPr>
                <a:t>Instrumentos de aprendizaje en línea</a:t>
              </a:r>
              <a:endParaRPr b="0" lang="en-US" sz="3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244160" y="101520"/>
            <a:ext cx="1468116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4b0"/>
                </a:solidFill>
                <a:latin typeface="Helvetica Neue"/>
              </a:rPr>
              <a:t>Flipped classroom y blended learning</a:t>
            </a: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grpSp>
        <p:nvGrpSpPr>
          <p:cNvPr id="478" name=""/>
          <p:cNvGrpSpPr/>
          <p:nvPr/>
        </p:nvGrpSpPr>
        <p:grpSpPr>
          <a:xfrm>
            <a:off x="11226960" y="1790640"/>
            <a:ext cx="3924000" cy="3924360"/>
            <a:chOff x="11226960" y="1790640"/>
            <a:chExt cx="3924000" cy="3924360"/>
          </a:xfrm>
        </p:grpSpPr>
        <p:sp>
          <p:nvSpPr>
            <p:cNvPr id="479" name=""/>
            <p:cNvSpPr/>
            <p:nvPr/>
          </p:nvSpPr>
          <p:spPr>
            <a:xfrm>
              <a:off x="11226960" y="1790640"/>
              <a:ext cx="3924000" cy="392436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1804400" y="2260440"/>
              <a:ext cx="2771640" cy="29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Helvetica Neue"/>
                  <a:ea typeface="Helvetica Neue"/>
                </a:rPr>
                <a:t>Clase</a:t>
              </a:r>
              <a:endParaRPr b="0" lang="en-US" sz="3200" spc="-1" strike="noStrike">
                <a:solidFill>
                  <a:srgbClr val="414141"/>
                </a:solidFill>
                <a:latin typeface="Gill Sans Light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Helvetica Neue"/>
                  <a:ea typeface="Helvetica Neue"/>
                </a:rPr>
                <a:t>presencial</a:t>
              </a:r>
              <a:endParaRPr b="0" lang="en-US" sz="3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6159600" y="4724280"/>
            <a:ext cx="3924360" cy="3924360"/>
            <a:chOff x="6159600" y="4724280"/>
            <a:chExt cx="3924360" cy="3924360"/>
          </a:xfrm>
        </p:grpSpPr>
        <p:sp>
          <p:nvSpPr>
            <p:cNvPr id="482" name=""/>
            <p:cNvSpPr/>
            <p:nvPr/>
          </p:nvSpPr>
          <p:spPr>
            <a:xfrm>
              <a:off x="6159600" y="4724280"/>
              <a:ext cx="3924360" cy="39243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42080" y="5190840"/>
              <a:ext cx="2770200" cy="299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Helvetica Neue"/>
                  <a:ea typeface="Helvetica Neue"/>
                </a:rPr>
                <a:t>TIC</a:t>
              </a:r>
              <a:endParaRPr b="0" lang="en-US" sz="3200" spc="-1" strike="noStrike">
                <a:solidFill>
                  <a:srgbClr val="414141"/>
                </a:solidFill>
                <a:latin typeface="Gill Sans Light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676160" y="101160"/>
            <a:ext cx="14249160" cy="167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4b0"/>
                </a:solidFill>
                <a:latin typeface="Helvetica Neue"/>
              </a:rPr>
              <a:t>Taxonomía de bloom y </a:t>
            </a:r>
            <a:br>
              <a:rPr sz="5000"/>
            </a:br>
            <a:r>
              <a:rPr b="0" lang="en-US" sz="5000" spc="-1" strike="noStrike">
                <a:solidFill>
                  <a:srgbClr val="0074b0"/>
                </a:solidFill>
                <a:latin typeface="Helvetica Neue"/>
              </a:rPr>
              <a:t>flipped classroom</a:t>
            </a: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2552760" y="1409760"/>
            <a:ext cx="6769080" cy="67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4b0"/>
                </a:solidFill>
                <a:latin typeface="Helvetica Neue"/>
              </a:rPr>
              <a:t>Características de flipped classroom</a:t>
            </a: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740520" y="2933280"/>
            <a:ext cx="6210360" cy="441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635040" indent="-380880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IC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635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635040" indent="-3808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rabajo individualizado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635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635040" indent="-38088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rabajo en el aula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635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635040" indent="-38088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Aprendizaje activo.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2220840" y="1790640"/>
            <a:ext cx="6389640" cy="479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4b0"/>
                </a:solidFill>
                <a:latin typeface="Helvetica Neue"/>
              </a:rPr>
              <a:t>Ventajas de la flipped classroom</a:t>
            </a: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20200" y="1561680"/>
            <a:ext cx="13563720" cy="4419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635040" indent="-380880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Facilita la reflexión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35040" indent="-3808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Genera aprendizajes significativos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35040" indent="-38088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Crea entornos de aprendizaje centrados en el alumnado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35040" indent="-380880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ermite una atención más individualizada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35040" indent="-380880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umenta la responsabilidad en el aprendizaje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35040" indent="-380880"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Implica a las familias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7"/>
          <a:stretch/>
        </p:blipFill>
        <p:spPr>
          <a:xfrm>
            <a:off x="8902800" y="4564080"/>
            <a:ext cx="5778360" cy="387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536480" y="0"/>
            <a:ext cx="14363640" cy="95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74b0"/>
                </a:solidFill>
                <a:latin typeface="Helvetica Neue"/>
              </a:rPr>
              <a:t>Dificultades de la flipped classroom</a:t>
            </a:r>
            <a:endParaRPr b="0" lang="en-US" sz="5000" spc="-1" strike="noStrike">
              <a:solidFill>
                <a:srgbClr val="0074b0"/>
              </a:solidFill>
              <a:latin typeface="Helvetica Neu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13563360" cy="44193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marL="635040" indent="-380880">
              <a:lnSpc>
                <a:spcPct val="10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Preparación de materiales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35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35040" indent="-380880">
              <a:lnSpc>
                <a:spcPct val="10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Acceso a Internet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35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  <a:p>
            <a:pPr lvl="1" marL="635040" indent="-380880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elvetica Neue"/>
              </a:rPr>
              <a:t>Exceso de tiempo delante de un ordenador.</a:t>
            </a:r>
            <a:endParaRPr b="0" lang="en-US" sz="3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5473800" y="5464080"/>
            <a:ext cx="6502320" cy="2714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utoBVT</dc:creator>
  <dc:description/>
  <dc:language>en-US</dc:language>
  <cp:lastModifiedBy/>
  <cp:revision>0</cp:revision>
  <dc:subject/>
  <dc:title>Presentación de PowerPoint</dc:title>
</cp:coreProperties>
</file>